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86E5-F9A3-4EBA-8E16-B53728F5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6CE1-BE55-46A5-8CAB-65390F7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A547-4E85-4C3D-86CF-4567B5CC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6F1A-D23C-4E3A-91B2-4874567F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7AD-54DF-4CC4-89CA-C08DEEE8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6F46-4B3B-48DA-ABDA-8B3D5F5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2D67-453F-4263-8681-70B4267E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DECD-1596-4C46-8BB2-2D28A9BF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F69-E006-49D4-884F-AACB992C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DCE-32E1-4EAE-BFB6-6447FFA2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BDB1-3F54-47DE-8221-B621F94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E2D7-594A-4015-83E9-76FEC2DB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62D-0E86-407E-86E3-F865896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1F6-C569-4D3F-8487-4F3216F2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46B8-BF69-4785-A097-C7EE1C7B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DC0A-F0E3-4C31-B8E9-42A0481A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23C1-ED4E-48E1-87FD-76D14E26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7F2A-E7DF-4BB6-A3C6-324D091B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407B-3E5E-44FA-83C7-333F6B8E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FCB3-07E6-4A57-89EE-3D077E5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9182-985F-47BE-9492-0403207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0622-D6FA-416F-A754-755CF72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F940-EF82-47DC-96C7-B0F2907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B93C-2F1C-46A8-B9A2-6C8174B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8A9C-B305-44CA-B981-09E83A438E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99F-8201-4411-938B-F2B439FBF2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Reinforcing effort and providing recognit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hievement is proportional to effort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chers need to  help students believe they can achie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erage effect size .8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962520" y="1905120"/>
          <a:ext cx="5784840" cy="38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57848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5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3:10Z</dcterms:created>
  <dc:creator>workstation</dc:creator>
  <dc:description/>
  <dc:language>en-US</dc:language>
  <cp:lastModifiedBy>workstation</cp:lastModifiedBy>
  <dcterms:modified xsi:type="dcterms:W3CDTF">2010-08-03T14:36:36Z</dcterms:modified>
  <cp:revision>2</cp:revision>
  <dc:subject/>
  <dc:title>Reinforcing effort and providing recognition</dc:title>
</cp:coreProperties>
</file>